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73D-93B1-403A-A0BE-B6B68207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21D-870A-4621-8E0B-4EAAF5DD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DB3C9-16F1-44D8-8136-2D87B18E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55DBF-FCB8-4652-87A9-3D4727AB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E1306-C303-45EC-89A7-923B8A4C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38CF5-B4F0-406A-9F94-3579428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106BE-F47E-41AC-A355-84DB780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64F03-22EC-4EF4-B264-2F837785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851B8-0B7F-413A-B661-71E4C695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66A8A-D5C4-4E2B-8F3F-77760281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A37D5-2C8F-4538-98C9-E0B5E2B7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16936-8E44-4B59-9E38-21DD054A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CB3-ADBF-46D2-83BA-886B53AB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D83D9-E4B7-4D7C-B329-57972788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FB52B-9CBF-4BC4-BD2C-C6279547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B81B6-B984-4127-A631-C00EE126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47E8C-BFDE-4B22-8320-06645584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4844E-5C3B-4BFF-B9B4-7CB873DE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702AF-ADC7-4630-9C92-ACCB943D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00332-2AD2-4C58-B983-638EC884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5C9E5-2C47-4D98-8712-43E35CC0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438EC-EF28-43AC-A3C4-51756BD6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A5A33-2212-49D9-8FFA-BBC02E4C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788-D0C1-4264-A532-8488BD7A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D75F2-3438-4207-8EC1-FB1CEA88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182AF-DDFE-4AE7-B2FB-85F044B6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4FF9-12B2-4AC0-940E-A25EAE5A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34953-645E-47D2-A646-4C74BA81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7C782-8F8F-4EEB-8473-85562770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265B6-089D-4F9F-A07B-EFA710D2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E3041-D0F1-4665-BF80-7128C6A9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ECD7A-8BD5-4F7B-B3CC-1D8A399A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B38BF-CABD-41C7-84DA-BCE73319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E0248-369C-40DF-96BC-FF2A4C3A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2440-1C98-4124-9BA7-C8E581A2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A26B6-E077-4BEB-9C71-467702C7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6C05F-17CC-4443-AEFB-D7B9F481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4F620-7CB1-46E8-B062-D2D5E6D5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0914E-F9C9-4F86-A99A-271AC682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44BEF-7AAD-4853-8053-03A8B4EB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333CE-998F-4E8D-AF42-D6C337D9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6CBFB-229A-46CF-8AD9-3A561718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92F94-C9EC-4605-9A0E-097B35D7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A2D5C-CA98-4F15-865F-7B2F72DC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8B948-B4C8-4AB5-8944-8D874862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E93C-BC8D-4F4C-B8EC-6E84789A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7E225-A22C-4D42-B2A2-FB2A5B63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BE856-DAC6-48CE-90FB-0D8AE5E6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899A7-43BF-421B-8566-A76E9EE1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8C1C6-2B9D-4035-95E0-B2A390C6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E231E-B4FA-4D0E-AD07-FE90FC97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8368B-FE2C-4B95-AF8A-8DE367D6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53BC9-38A1-4016-9A8B-828A0FAB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AB3EA-8BCF-4C39-AF09-856DA624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81D96-1327-496F-B82A-F81167E6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349DA-F2B3-427E-92FE-D047CC9C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89A7-C7FC-4B09-91B4-0CD4AC9B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FAF72-74EC-4FEF-B476-4E7D2F2F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2F888-FD73-4283-8FDB-7967F82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FB914-0EB7-480B-B32E-E0545C19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3214F-C822-41D3-A779-AFF17C1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03266-E064-4C44-8A46-024220D6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15EB4-665A-48D4-8DED-BE90095D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7476F9-C234-4E61-BA53-5F45CF72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EE1EB-C8F5-436B-9E7E-A419AF0B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4EDC1-FF3D-40F8-998E-8265BDE2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CE81B-FEE9-41E1-9B4B-50A74C00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FEF1-3313-4002-A312-0A27C0AB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AB479-F367-43A5-B633-19EC979F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16DC4-CB1E-493D-B659-08B317AA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38045-2A54-4EC2-A671-E6C97509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E2315-D7DC-4250-AAA0-3E15570F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AD93A-AFAB-4352-B4B6-328B1A8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0C41A-5576-4102-8D41-0D233CFC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247A3-A230-441F-8334-FE4EB30C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A4658-8131-44AD-B71C-9EB8129F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1FA928-F1A1-4CC1-B4FF-FB580229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D354A-C8B2-4B0A-B1D7-90F2367A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DFE2-D871-407A-912A-8E3BBF85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E36A9B-9366-4ECE-9F03-5630D865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5C9F1-06C8-4F2F-8116-236C69F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82F4E-C7DC-4173-963A-1436DD14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1E5DBD-C8F5-4D57-AF05-E6C90D83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D02F0-C9BB-46DC-A243-28D50906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9E0B5-F604-44A3-95D7-1A76684B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26D17-26D5-4343-8936-D5E13F27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0A13E-BDD0-4F7B-8A49-644E992E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FC7F35-6187-4189-9B77-9B4E847D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EFD05-3562-4869-85ED-ED830091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AFD7-0524-451E-A349-600EE90B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F7FE8-DEB4-43A7-84A6-4A16C28D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83EDB-2198-43EB-A3DF-E7240644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97508-C9EA-4C54-8D89-8E299261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32004-FA7C-4CF8-9DF1-2FB43BB2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B0FFA-57DC-41AE-B105-E9A32554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43273-2083-415B-A051-622F656E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20EA2F-51A0-4362-97C9-AD79F0D8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C043D-7E02-4D78-91FB-3FFFFEBA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DDC88-8B8F-4E82-BBE3-38DBBE5C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DBEB0-F3B6-49E0-B7B6-B3EA293D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2C42-FE8B-4802-A1C8-61BE7E6D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259A6-09C4-4AC6-B318-004C33D0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E12543-EA4C-407A-BE91-A34A5E38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2A24D-E8DD-4468-BCD9-163781CA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35C1F-CEC6-4E94-A7E2-EF8A256F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6FAC1-B96A-48EA-B984-3D23D6DB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D0CEE-9DD0-42EF-B7E4-FEA72D5C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04797-A065-4773-8B1C-C3BB1475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501FD-598B-4C60-AFD9-A33D422D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8C04D-0ACC-4D6E-8528-8B1F89FB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0A75EB-F691-4B1E-96FA-EBB0DA37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76C-AACA-455F-93DC-44D95CC2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C172-E540-4A14-A001-71EA71F9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7E895-5083-4AB8-BC94-C915DA70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19D13-6013-42AB-BC06-C371E90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F3276-802B-4283-BB17-8D5C3104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8A421-BAC3-4B7D-9BB2-10514BA5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78EBF-4313-48D4-9F03-310C5E83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D99B1A-CCCC-404F-8128-2A7779F7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1494D-BEF8-41EE-9E50-58BFE464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D28920-8CF7-4C1E-BE7D-C66E1F2F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009DF-7395-4BA4-BDE8-671EEEB4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2528D-CB06-427E-9F94-C96EF4C6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3FF6-4E4A-45C9-A7FA-3090F974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64504-C62D-40AC-B516-4DB7B992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B6E98-F70D-4C66-BBE3-FFB0506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EA3EC-FF4B-4BDF-ABD6-417510EB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B5881-D573-4E9B-8E13-BF776DDD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B3E6D-B8FD-4E6D-8BBD-60D0D74C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125FD1-341C-4870-AC89-2F3AAE54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99C9C-444E-4A3E-B09A-17051885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8D6BE-0CBB-47C8-9168-8172F3AC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30B13-4033-434C-A7AD-33231546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EA137-FE3A-4166-8DFF-D20BA6CA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E7B8-B2E5-4915-9B92-A4FE5BE6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88086-8733-4AB8-BE93-B1EFCE6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40CB5-4FD9-4A48-8C43-83D47E84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06EF9-9C42-40AD-84B4-92B2165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FD7420-A478-45F5-9EF8-683A57F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E6105-9714-4772-ADD5-D34D5536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AA66E-6434-4EA4-9D9E-433267D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B2871-6A18-40DA-B334-2B137A70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92206-A143-439D-8ABA-BEA944CA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4DC85-BB76-4A3C-BE91-E0F5BCA4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5D780-21E6-4A38-8504-B601AD6B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B931-DC9D-4014-84A4-B247FE16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458AF-A9A6-43FA-BC34-AC1C06E4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C6158-D23A-4463-866B-C7A389D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7A24C-762F-427D-8DB3-D6229E2D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811F4C-9230-4EEA-BF25-2B2AC3CD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ADEB2-1FEF-4439-8DB3-04DA1770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970EA-2CFD-4DCD-ADAC-CF376A18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5DC263-0817-42E1-8E1F-9AAD246B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DCA707-4761-4AEC-A739-51B9A068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05694-7BDB-4288-BC52-BDB92983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C9C00-23BF-4B0E-B928-8DCE8910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4E60-3385-4AD8-A7EE-353D2500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DA160-105A-4E90-A9D3-2CD0CECF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61290-01CF-43B3-8139-66066B27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38D67-D09B-4D20-9881-E9BBC5B4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297E4-AB81-4EE0-ADC1-C657828A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60E0A7-00C5-4550-B8A3-077AA48C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E682DA-CCCD-4279-97B4-95FBFE7F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5C0149-AC34-4DC2-8265-4F20D394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E3B8B-CAD7-4C57-B9D3-FF638918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2603DC-2443-4C81-8CAB-6953BF29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081CE-E770-475B-A27B-635F5A1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95BF-3FD5-437F-B8AD-0142B925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592ED-B07C-48DE-AB4B-F2A921B2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766182-6E38-45B5-AF30-B2390C71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87931-1A87-463C-92D3-EF360982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FAEBC5-CC48-43B2-A758-97D8CF04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D1BADE-0C3C-420D-99AA-38A6F5C3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A93293-33E0-4F89-8FEB-794CC7F2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2D2725-AA66-4423-87DE-23DD0E64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FC541B-042B-44F6-A31E-12B18310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FA197-6D6A-487B-8053-FA52CECB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280D8-5D82-4ED2-9AE6-B825247B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2ACB9-E8AB-4194-81D8-AB6FAE1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EBE363-21D3-4868-881B-E3C98BC1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2FC5D5-F6CA-41E0-B0A1-48F5ACE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5AAE0B-5846-4F03-980E-FB97CC80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340DDB-2C67-4671-B29B-FD34ECF1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A30363-2B0A-43B8-B0EA-E5A30848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A6FF91-88E2-4D77-A54E-878AE08E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3EC884-3A21-4CC9-9F9F-E9C1608C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C56AD9-B224-4533-9F1B-3FDCA61C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737EA3-F388-4841-B22D-998E28A5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563BDE-D061-4B30-9B0B-9F67975F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95F5-D1E9-47A8-9727-61192CF3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B0DA40-917B-4D39-9761-8A932335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31C865-8BA3-48D3-9450-5BFDFED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00D712-A8BF-41C9-B974-857297FB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B297E3-FEEB-456F-8A8B-D32A7272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EFD256-7323-41C2-A248-5FF9E4C6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D47E73-84BA-4686-9D7F-22A2F530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487882-FEC3-41AC-A2A1-3AE98CA7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7BEFFB-8D1C-4A2B-A41F-6682774F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2893A1-B39C-4C79-BFE6-92A10CD9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76EA0F-C215-41D8-B072-F0E17975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FB64-5B9E-4B92-A9BA-99EDEDAC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F7A2D7-C86E-44FB-844C-CC36C19D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03404C-A03C-417D-A0B5-CF1EE3DB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B5109B-8579-4FAE-A771-4C41831E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A5E071-9DB7-429F-89F8-ADD746F7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34F8C5-4C03-4967-AC21-EAC7AFAC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54EF8-8347-47A2-9B3B-FFD9869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54F631-EF4B-4D86-A39F-9B6F4CC4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3C6EBA-43E9-43B0-85B4-760CD7FF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6D5FB6-5B8A-4DC0-B255-2C5F5E81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A6682F-87BE-4A3C-B2AD-7F59D49F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6C13-1A7B-4708-A08B-B313F46A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148F9C-0069-453E-8440-FE141BAC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5AAF9E-4536-4D7B-884E-6C1559A1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FBC04B-D5FC-4BEC-BE3D-931DB6B0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19836A-47CD-4E62-B226-9CC2D955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E93022-7F12-4F04-80C8-F89129FD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9F07C0-661B-421A-A044-8F6A134A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BA29A9-6263-460E-B12A-0B46D9F1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71D8EA-1F28-403F-BDE6-46028CC0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4E489A-EDC1-4006-8D7F-57CC34E9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8AE289-795F-494E-ADDA-00A843B7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15B-769E-4959-B4FE-978626AF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38227-7A02-4370-97E0-34EC87CB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1D81FB-C889-403C-B927-65357857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6A6AC2-8E2E-4516-87F6-891AB785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B14F12-08D3-46FF-BA19-8768ACEB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E8D3F7-2D1D-4B5C-8496-A3A7B727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2088C8-4894-4DDB-8802-1E37D784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65A8BC-99C7-4225-9257-34068DE1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07C7D2-61A7-4D45-8733-6EB858A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73D9FB-6DDF-4F0B-B755-B3E7C539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CE7AE5-9B0C-41E1-B509-9EDBE9B3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67E57B-A259-4BEE-A351-24C94E5B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07EA-C8A6-4D87-BB1D-537A406B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8F57C9-660B-449F-B92E-5A520CAD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63494C-5CAF-4C62-9251-622E94F0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AA8A0F-6F12-4C19-8E5A-337DE939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D63734-A892-4CBF-AB11-B0C33E88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2645DE-EBF3-44CE-A10F-E20B99EF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525FC2-681B-444D-B19F-9BF28228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FBD393-0C1C-4849-9CA7-70A303AB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78D330-078D-46B3-9625-AB9155B4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C4A278-7529-497C-839C-4A8E2D7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8A943E-9A6D-44A1-A069-97CD0F74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680E1-132F-4E06-B508-FFA0907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8AC77C-6AB8-49D5-8687-870D5762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BFCF09-273A-4C9B-86CC-49ABB5B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0BAE90-1047-4E4D-824F-1A9B440A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CF7D2C-3599-41EA-A77C-FA4EBEB0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51CC8A-B91B-4D4D-9B5B-28FEAEC3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F8320A-824E-452F-8863-4A1D78A6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F414D2-C1A3-422B-B121-D0B58EF1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FBF146-1472-4236-8677-C50CF7CD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EAF9DB-3BA7-4777-9CF9-FC005168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C128D2-E78A-4307-93BD-A25D8B1F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5D6D-30FB-4C3D-928B-5C3A7CB7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DA01BA-EEA5-4E14-930B-374C444B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6DC02B-2605-4BCA-9DB3-AEE64BC9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46B4CC-26E2-4CD0-A515-7A7A68B2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CB6868-A83D-46CF-AF4A-38AF42B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44BFAC-9111-4D59-86A3-62885C6A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F18B78-CB59-4783-AA11-5EBD3527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B24A5B-E433-478B-9479-E4EB8BEF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5A95DF-BF18-49D6-B54E-80647224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20315B-2D98-436E-AE4E-6E2624B2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3D4AD4-7674-483C-9622-9716628F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070F-E6F6-4DA1-998B-9D3F1F75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0E2391-1552-4780-9AB7-B276DF5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F31FCC-6F0F-4F53-8085-677C387F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98E968-D0F5-4F98-8940-3669A0A0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E9BAEE-9C28-415A-A3B3-4B7A359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9695E0-27C3-4864-BE7B-D493CDE2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BCB17C-7F76-4BAE-BB4B-83C397EB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9C1486-1A49-4C0F-963C-306FB7A1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565460-92A2-491E-B061-A0282D5A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107498-54A4-4F7C-95A6-431DB740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0987BC-576F-4DD6-957F-47524DA3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A782-BB8B-49A6-ACB9-B2B7DFF6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ADA2B5-708E-4E5D-87B7-27B2C45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866544-A5F2-44A4-B3FD-647F2874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FA1C48-9C63-413E-8E94-374E01E0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3DD44D-35D5-43F5-AB51-279F5C4B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38564B-D400-44E4-9407-B14C28E4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56C9DE-DBE2-426F-9A9F-C56816C9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B7A7C0-B8B8-436E-BD3D-653BB67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AC52D8-6F4F-47E0-BD2C-342E38BF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04AA0C-B989-4988-9B4A-F7B5BCC0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9E0E31-6FC3-4BD3-BB01-8E10EA5D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98DB9-30FE-406A-BFD9-454E744C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ED52D8-4163-4A6E-A396-31610546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3D3EE5-FC65-47E6-BEB1-50B3165F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ADEE09-990A-40FE-B98F-EF3E3BD3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7B46D5-5042-4277-ADAA-20E84975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22B9B4-A2F0-4086-A4C4-979D8D22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0BD8B8-C7A5-4700-9209-651EDCAF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03E9AD-3284-4BF7-ADE3-CFD6EFB3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A5800B-C0CC-44F6-9011-41602662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27810D-9D64-406F-A4D3-CDE9247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939851-4F1A-41E1-AB85-3BD14C7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108A-D5A2-4840-A595-9537498E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A81793-5BDB-4E91-957C-596CE3C9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E50084-C344-45C8-B80F-C6345569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0EDD9A-39AF-421F-93CE-867099E9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F7B4-02C5-4133-B0F0-BDDCC48E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96ACE-5CA2-402D-9644-B76667AE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0CD-4899-4766-9E5F-ECFAAE4D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6E28-EE99-488F-A0D5-3D270DCB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8C544-D03B-4AAF-92D4-857CD5F1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3A37-A463-4049-9E99-FAF74F72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1500A-9E07-4510-B38E-A3C8C4CC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DF2F-4A58-448C-B779-448F6787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5E11-6AE6-4C4C-83D1-A340283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8D7E-F302-4B76-AED1-64D5A0AE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0E60B-BCE3-488C-9432-40CE0863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B719-939A-4B3C-A11D-635B8318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F16A-A299-47B4-AA88-72D205E9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419-E9C6-454B-9EB8-EB1C3625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C536E-2982-4A9E-96BD-E4080A05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5448-33EB-455F-8984-C1FC519C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7476-CADD-496F-B8CB-5D3CA0DE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1AB61-5F0A-41BA-8C30-3C22DBD8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0967-DC95-4080-87A1-848B34F4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BA2A-2024-42B9-BDB3-C4B12A12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06E3B-7091-4931-AF2B-CF52FD7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091A-4CF7-4F34-A1A5-5E3ACA8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3C3D-2178-4BAF-8CBC-FF60AC47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EC7D-7AB5-4A45-9E80-8333686E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49A-7DFE-42FF-AE46-FA9B01CA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6239C-D382-466B-94B7-387F4447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85DF3-0CD7-411B-AAD6-CF664646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F0C11-CA4B-46CC-B994-6C8CD94E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8AD6A-1A16-4B42-A9C2-4B9C82E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1C1B4-6840-4DCC-90B4-18CBD600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80C80-789A-40BC-9112-7241DF34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AC338-1480-46B5-86E9-9A92B7F4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1DA52-D365-400B-A9F3-09BE9FD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B201C-0E4A-4B7B-858C-A9E3676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4BC36-3694-4C9C-B96A-8D4FFEB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29D-D079-418F-9819-96391F8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B283E-C3B7-46D1-B12A-F722DE55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B2635-1273-483A-BEBD-FD83D9F8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B9822-009C-4216-BFE6-C35B3F63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E1428-AAE3-4B4A-A6F6-B2ABA4AB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3FF3F-3502-4B8B-8BA6-CCEBFBF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B0B4F-0AFA-49BA-BD49-80C8707B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50F49-5A4F-434C-A266-F04F6D07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19264-3B4A-436E-8EA3-4A7EE6A4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1AE63-48C7-46A3-B828-B2409A54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AF965-06D4-44B2-9513-F42C530D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188-6B85-4CA9-B609-1CD62855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6E144-872E-4F27-8993-71429EF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4476E-52E8-4A88-BF2D-ABDCF90A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31113-AA9C-4414-86A1-71F8AB47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AF464-0B72-48E7-B2EA-659ACE5F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914E5-12BF-4896-A24C-88C5D1DE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99EC6-5ABB-4285-B75A-D8308D68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C53A-0080-4C8F-A11C-DE345D17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E0C7D-A22A-4C49-8A7D-3A7F54EC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16E9-96E5-4DB7-8E5A-E19EF6B9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05DA-B646-41F1-8F41-D77A5E1C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218-DC27-4C33-B740-8D3412C9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025EC-456C-47BA-82A3-BBE60E27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1EBA7-0906-495A-87D9-3DE8DB12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F743F-73C3-4760-B80F-BA37DFEC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8B93A-C33C-4046-A87E-E6286C7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3834-8B75-4D4D-9071-2E13EDEB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37C58-9F31-4D99-BE49-20D0FD84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64121-D6D1-4F9F-AAFC-3F157322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E0E0C-A3AC-46DC-BDF0-2A6F2E3C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DCADD-3A49-411B-9CF5-7132716D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78776-31E7-4321-BAEF-42062870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67FD-10B4-4C78-AA0C-5E3409A229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8ACB-D70A-4188-B44E-1BB35FE21B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3221-DBCE-4A47-9F16-E8D5CE042B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1C6E-0E4A-4A7C-8054-AA51D893DE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AA8-6B74-4FAB-A176-8D782EE4CD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18BB-4421-4937-A63A-23DB437CB2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604F-29C0-4297-84EC-1707A31F8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3FA2-DC3E-491D-93AE-A5BE90BF01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52F6-9DC4-41D7-966E-70511868E3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C533-CFF9-4885-9BF0-2C26ED4A6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3252-EAC2-49C2-A588-19251F569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FFAC-D35C-4259-9998-84BED7FF20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0341-0E14-4729-A30D-D8E3DA08D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5807-769B-4933-8C94-CAACD176DC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DAAE-ECA6-49C1-AB2D-B2B14B88FC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64E2-0849-452F-B08C-8FC2EC344F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5AA5-0CCF-4623-BCD5-B938BAA0ED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8226-F855-4CF9-B76B-76072E1F24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9B37-F104-4123-B151-F83E8EFEF5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B636-C31C-4DB8-BA51-FA42629900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E6B3-2EE1-4D2C-9027-48FC964032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8D16-62B5-45D2-8B5E-8C9330E79D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E33F-C244-47FF-BB37-3933099F28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6428-F5FD-4904-A211-B22122E7A4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286-3001-497E-8FC9-085B5D5F54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B4BF-1592-4ABA-BA77-5254DA604F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52DD-8DFC-49C5-9F48-5F41E54D80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82A6-AAFE-429C-8D2A-100DD21DD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4F17-5439-478E-9E5A-4B6D1DB68C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44C4-FDB2-475B-86A9-E08CC13889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72F5-9395-4E66-900B-A5DF719E9C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85D6-E6B2-4DB4-8218-01404A189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EA11-234F-4610-ACDC-43956CC38C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A774-1747-486C-B51B-2F651D0B7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2157-B326-4711-9F89-6A3C6A1013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A307-5120-4D42-9CB0-F9F87ABC6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FB50-FF09-41FE-B038-E98711D6DD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62DC-486C-4297-BD5C-F3A9161D87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870F-A70A-49A9-A6C8-6CA284CAC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1581-BA17-4972-9E2B-9D01825C7E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F353-588E-4B6D-BCC3-E2E8D4A912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B717-1BFC-4EED-9535-B5D6872B56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6654-1B8D-4938-83DE-B1EA988D8E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6241-7311-485A-82D3-BD9BFBEF97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927F-18FB-4B4F-81A9-63DC1320DB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41A9-22CD-485A-AA30-7E32338EE0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E5EC-FD6E-48C7-BC37-3B953A57A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C335-0FB8-48C6-BE2A-46D78C3D6F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90CC-A80B-418E-A339-7BE0AAB580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20D2-6F78-4336-9831-861469079F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05240" y="2128680"/>
            <a:ext cx="4133520" cy="75276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209760" y="3086280"/>
            <a:ext cx="2724480" cy="68580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527120" y="3933720"/>
            <a:ext cx="6276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6737" descr=""/>
          <p:cNvPicPr/>
          <p:nvPr/>
        </p:nvPicPr>
        <p:blipFill>
          <a:blip r:embed="rId1"/>
          <a:stretch/>
        </p:blipFill>
        <p:spPr>
          <a:xfrm>
            <a:off x="533520" y="2128680"/>
            <a:ext cx="80769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571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10360" cy="3086280"/>
          </a:xfrm>
          <a:prstGeom prst="rect">
            <a:avLst/>
          </a:prstGeom>
          <a:ln w="0">
            <a:noFill/>
          </a:ln>
        </p:spPr>
      </p:pic>
      <p:pic>
        <p:nvPicPr>
          <p:cNvPr id="1456" name="图片 115714" descr=""/>
          <p:cNvPicPr/>
          <p:nvPr/>
        </p:nvPicPr>
        <p:blipFill>
          <a:blip r:embed="rId2"/>
          <a:stretch/>
        </p:blipFill>
        <p:spPr>
          <a:xfrm>
            <a:off x="1033560" y="3921120"/>
            <a:ext cx="5505480" cy="146700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15715"/>
          <p:cNvSpPr/>
          <p:nvPr/>
        </p:nvSpPr>
        <p:spPr>
          <a:xfrm>
            <a:off x="7697880" y="18255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4689" descr=""/>
          <p:cNvPicPr/>
          <p:nvPr/>
        </p:nvPicPr>
        <p:blipFill>
          <a:blip r:embed="rId1"/>
          <a:stretch/>
        </p:blipFill>
        <p:spPr>
          <a:xfrm>
            <a:off x="542880" y="1619280"/>
            <a:ext cx="8058240" cy="36194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4690"/>
          <p:cNvSpPr/>
          <p:nvPr/>
        </p:nvSpPr>
        <p:spPr>
          <a:xfrm>
            <a:off x="7802640" y="269244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366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981920" cy="471492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3666"/>
          <p:cNvSpPr/>
          <p:nvPr/>
        </p:nvSpPr>
        <p:spPr>
          <a:xfrm>
            <a:off x="7783560" y="323532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3667"/>
          <p:cNvSpPr/>
          <p:nvPr/>
        </p:nvSpPr>
        <p:spPr>
          <a:xfrm>
            <a:off x="7812000" y="429264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3668"/>
          <p:cNvSpPr/>
          <p:nvPr/>
        </p:nvSpPr>
        <p:spPr>
          <a:xfrm>
            <a:off x="7740720" y="537372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2641" descr=""/>
          <p:cNvPicPr/>
          <p:nvPr/>
        </p:nvPicPr>
        <p:blipFill>
          <a:blip r:embed="rId1"/>
          <a:stretch/>
        </p:blipFill>
        <p:spPr>
          <a:xfrm>
            <a:off x="566640" y="2171880"/>
            <a:ext cx="8010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1617" descr=""/>
          <p:cNvPicPr/>
          <p:nvPr/>
        </p:nvPicPr>
        <p:blipFill>
          <a:blip r:embed="rId1"/>
          <a:stretch/>
        </p:blipFill>
        <p:spPr>
          <a:xfrm>
            <a:off x="857160" y="995400"/>
            <a:ext cx="7429680" cy="48672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1618"/>
          <p:cNvSpPr/>
          <p:nvPr/>
        </p:nvSpPr>
        <p:spPr>
          <a:xfrm>
            <a:off x="4564080" y="3825720"/>
            <a:ext cx="9428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1619"/>
          <p:cNvSpPr/>
          <p:nvPr/>
        </p:nvSpPr>
        <p:spPr>
          <a:xfrm>
            <a:off x="7412040" y="38163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1620"/>
          <p:cNvSpPr/>
          <p:nvPr/>
        </p:nvSpPr>
        <p:spPr>
          <a:xfrm>
            <a:off x="6948360" y="4365720"/>
            <a:ext cx="13147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1621"/>
          <p:cNvSpPr/>
          <p:nvPr/>
        </p:nvSpPr>
        <p:spPr>
          <a:xfrm>
            <a:off x="1322280" y="4875120"/>
            <a:ext cx="13147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1622"/>
          <p:cNvSpPr/>
          <p:nvPr/>
        </p:nvSpPr>
        <p:spPr>
          <a:xfrm>
            <a:off x="4994280" y="5425920"/>
            <a:ext cx="695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0593" descr=""/>
          <p:cNvPicPr/>
          <p:nvPr/>
        </p:nvPicPr>
        <p:blipFill>
          <a:blip r:embed="rId1"/>
          <a:stretch/>
        </p:blipFill>
        <p:spPr>
          <a:xfrm>
            <a:off x="538200" y="1557360"/>
            <a:ext cx="8067600" cy="37432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0594"/>
          <p:cNvSpPr/>
          <p:nvPr/>
        </p:nvSpPr>
        <p:spPr>
          <a:xfrm>
            <a:off x="7792920" y="383544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09569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419960" cy="229572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09570" descr=""/>
          <p:cNvPicPr/>
          <p:nvPr/>
        </p:nvPicPr>
        <p:blipFill>
          <a:blip r:embed="rId2"/>
          <a:stretch/>
        </p:blipFill>
        <p:spPr>
          <a:xfrm>
            <a:off x="779400" y="3424320"/>
            <a:ext cx="73533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08545" descr=""/>
          <p:cNvPicPr/>
          <p:nvPr/>
        </p:nvPicPr>
        <p:blipFill>
          <a:blip r:embed="rId1"/>
          <a:stretch/>
        </p:blipFill>
        <p:spPr>
          <a:xfrm>
            <a:off x="533520" y="2124000"/>
            <a:ext cx="8076960" cy="261000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08546"/>
          <p:cNvSpPr/>
          <p:nvPr/>
        </p:nvSpPr>
        <p:spPr>
          <a:xfrm>
            <a:off x="4897440" y="2158920"/>
            <a:ext cx="9525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08547"/>
          <p:cNvSpPr/>
          <p:nvPr/>
        </p:nvSpPr>
        <p:spPr>
          <a:xfrm>
            <a:off x="6372360" y="2133720"/>
            <a:ext cx="9522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08548"/>
          <p:cNvSpPr/>
          <p:nvPr/>
        </p:nvSpPr>
        <p:spPr>
          <a:xfrm>
            <a:off x="8075520" y="2176560"/>
            <a:ext cx="6192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08549"/>
          <p:cNvSpPr/>
          <p:nvPr/>
        </p:nvSpPr>
        <p:spPr>
          <a:xfrm>
            <a:off x="1116000" y="2708280"/>
            <a:ext cx="6192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08550"/>
          <p:cNvSpPr/>
          <p:nvPr/>
        </p:nvSpPr>
        <p:spPr>
          <a:xfrm>
            <a:off x="6300720" y="3213000"/>
            <a:ext cx="18576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08551"/>
          <p:cNvSpPr/>
          <p:nvPr/>
        </p:nvSpPr>
        <p:spPr>
          <a:xfrm>
            <a:off x="3832200" y="3735360"/>
            <a:ext cx="18572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08552"/>
          <p:cNvSpPr/>
          <p:nvPr/>
        </p:nvSpPr>
        <p:spPr>
          <a:xfrm>
            <a:off x="1332000" y="4282920"/>
            <a:ext cx="26193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07521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29800" cy="507708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07522"/>
          <p:cNvSpPr/>
          <p:nvPr/>
        </p:nvSpPr>
        <p:spPr>
          <a:xfrm>
            <a:off x="7859880" y="2216160"/>
            <a:ext cx="371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7960" cy="544860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0"/>
          <p:cNvSpPr/>
          <p:nvPr/>
        </p:nvSpPr>
        <p:spPr>
          <a:xfrm>
            <a:off x="7840800" y="4816440"/>
            <a:ext cx="371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06497" descr=""/>
          <p:cNvPicPr/>
          <p:nvPr/>
        </p:nvPicPr>
        <p:blipFill>
          <a:blip r:embed="rId1"/>
          <a:stretch/>
        </p:blipFill>
        <p:spPr>
          <a:xfrm>
            <a:off x="1324080" y="2214720"/>
            <a:ext cx="64958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2595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991640" cy="390528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25954"/>
          <p:cNvSpPr/>
          <p:nvPr/>
        </p:nvSpPr>
        <p:spPr>
          <a:xfrm>
            <a:off x="7439040" y="2654280"/>
            <a:ext cx="8110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25955"/>
          <p:cNvSpPr/>
          <p:nvPr/>
        </p:nvSpPr>
        <p:spPr>
          <a:xfrm>
            <a:off x="5724360" y="3213000"/>
            <a:ext cx="25736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25956"/>
          <p:cNvSpPr/>
          <p:nvPr/>
        </p:nvSpPr>
        <p:spPr>
          <a:xfrm>
            <a:off x="5651640" y="3789360"/>
            <a:ext cx="25732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25957"/>
          <p:cNvSpPr/>
          <p:nvPr/>
        </p:nvSpPr>
        <p:spPr>
          <a:xfrm>
            <a:off x="6227640" y="4365720"/>
            <a:ext cx="2449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25958"/>
          <p:cNvSpPr/>
          <p:nvPr/>
        </p:nvSpPr>
        <p:spPr>
          <a:xfrm>
            <a:off x="1476360" y="4941720"/>
            <a:ext cx="20494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26977" descr=""/>
          <p:cNvPicPr/>
          <p:nvPr/>
        </p:nvPicPr>
        <p:blipFill>
          <a:blip r:embed="rId1"/>
          <a:stretch/>
        </p:blipFill>
        <p:spPr>
          <a:xfrm>
            <a:off x="890640" y="1471680"/>
            <a:ext cx="7362720" cy="391464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26978"/>
          <p:cNvSpPr/>
          <p:nvPr/>
        </p:nvSpPr>
        <p:spPr>
          <a:xfrm>
            <a:off x="5545080" y="1521000"/>
            <a:ext cx="752400" cy="35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26979"/>
          <p:cNvSpPr/>
          <p:nvPr/>
        </p:nvSpPr>
        <p:spPr>
          <a:xfrm>
            <a:off x="3348000" y="2070000"/>
            <a:ext cx="133344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26980"/>
          <p:cNvSpPr/>
          <p:nvPr/>
        </p:nvSpPr>
        <p:spPr>
          <a:xfrm>
            <a:off x="3348000" y="3213000"/>
            <a:ext cx="10288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26981"/>
          <p:cNvSpPr/>
          <p:nvPr/>
        </p:nvSpPr>
        <p:spPr>
          <a:xfrm>
            <a:off x="2484360" y="3789360"/>
            <a:ext cx="102888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26982"/>
          <p:cNvSpPr/>
          <p:nvPr/>
        </p:nvSpPr>
        <p:spPr>
          <a:xfrm>
            <a:off x="2843280" y="4365720"/>
            <a:ext cx="4124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26983"/>
          <p:cNvSpPr/>
          <p:nvPr/>
        </p:nvSpPr>
        <p:spPr>
          <a:xfrm>
            <a:off x="3581280" y="4941720"/>
            <a:ext cx="27529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28001" descr=""/>
          <p:cNvPicPr/>
          <p:nvPr/>
        </p:nvPicPr>
        <p:blipFill>
          <a:blip r:embed="rId1"/>
          <a:stretch/>
        </p:blipFill>
        <p:spPr>
          <a:xfrm>
            <a:off x="1128600" y="1314360"/>
            <a:ext cx="6886800" cy="422928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28002"/>
          <p:cNvSpPr/>
          <p:nvPr/>
        </p:nvSpPr>
        <p:spPr>
          <a:xfrm>
            <a:off x="1897200" y="2025720"/>
            <a:ext cx="685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28003"/>
          <p:cNvSpPr/>
          <p:nvPr/>
        </p:nvSpPr>
        <p:spPr>
          <a:xfrm>
            <a:off x="7164360" y="2060640"/>
            <a:ext cx="685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28004"/>
          <p:cNvSpPr/>
          <p:nvPr/>
        </p:nvSpPr>
        <p:spPr>
          <a:xfrm>
            <a:off x="1838160" y="2708280"/>
            <a:ext cx="466920" cy="13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28005"/>
          <p:cNvSpPr/>
          <p:nvPr/>
        </p:nvSpPr>
        <p:spPr>
          <a:xfrm>
            <a:off x="1908000" y="4221000"/>
            <a:ext cx="685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28006"/>
          <p:cNvSpPr/>
          <p:nvPr/>
        </p:nvSpPr>
        <p:spPr>
          <a:xfrm>
            <a:off x="5292720" y="4292640"/>
            <a:ext cx="68580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55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123905" descr=""/>
          <p:cNvPicPr/>
          <p:nvPr/>
        </p:nvPicPr>
        <p:blipFill>
          <a:blip r:embed="rId1"/>
          <a:stretch/>
        </p:blipFill>
        <p:spPr>
          <a:xfrm>
            <a:off x="561960" y="1504800"/>
            <a:ext cx="8020080" cy="3848400"/>
          </a:xfrm>
          <a:prstGeom prst="rect">
            <a:avLst/>
          </a:prstGeom>
          <a:ln w="0">
            <a:noFill/>
          </a:ln>
        </p:spPr>
      </p:pic>
      <p:sp>
        <p:nvSpPr>
          <p:cNvPr id="1438" name="矩形 123906"/>
          <p:cNvSpPr/>
          <p:nvPr/>
        </p:nvSpPr>
        <p:spPr>
          <a:xfrm>
            <a:off x="7850160" y="202572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2881" descr=""/>
          <p:cNvPicPr/>
          <p:nvPr/>
        </p:nvPicPr>
        <p:blipFill>
          <a:blip r:embed="rId1"/>
          <a:stretch/>
        </p:blipFill>
        <p:spPr>
          <a:xfrm>
            <a:off x="561960" y="1238400"/>
            <a:ext cx="8020080" cy="438120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2882"/>
          <p:cNvSpPr/>
          <p:nvPr/>
        </p:nvSpPr>
        <p:spPr>
          <a:xfrm>
            <a:off x="7869240" y="17589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1857" descr=""/>
          <p:cNvPicPr/>
          <p:nvPr/>
        </p:nvPicPr>
        <p:blipFill>
          <a:blip r:embed="rId1"/>
          <a:stretch/>
        </p:blipFill>
        <p:spPr>
          <a:xfrm>
            <a:off x="552600" y="995400"/>
            <a:ext cx="8038800" cy="486720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1858"/>
          <p:cNvSpPr/>
          <p:nvPr/>
        </p:nvSpPr>
        <p:spPr>
          <a:xfrm>
            <a:off x="7888320" y="150192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1859"/>
          <p:cNvSpPr/>
          <p:nvPr/>
        </p:nvSpPr>
        <p:spPr>
          <a:xfrm>
            <a:off x="7885080" y="350028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0833" descr=""/>
          <p:cNvPicPr/>
          <p:nvPr/>
        </p:nvPicPr>
        <p:blipFill>
          <a:blip r:embed="rId1"/>
          <a:stretch/>
        </p:blipFill>
        <p:spPr>
          <a:xfrm>
            <a:off x="552600" y="1481040"/>
            <a:ext cx="8038800" cy="389592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0834"/>
          <p:cNvSpPr/>
          <p:nvPr/>
        </p:nvSpPr>
        <p:spPr>
          <a:xfrm>
            <a:off x="7802640" y="1978200"/>
            <a:ext cx="371520" cy="35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19809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77320" cy="578196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19810"/>
          <p:cNvSpPr/>
          <p:nvPr/>
        </p:nvSpPr>
        <p:spPr>
          <a:xfrm>
            <a:off x="7850160" y="42069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18785" descr=""/>
          <p:cNvPicPr/>
          <p:nvPr/>
        </p:nvPicPr>
        <p:blipFill>
          <a:blip r:embed="rId1"/>
          <a:stretch/>
        </p:blipFill>
        <p:spPr>
          <a:xfrm>
            <a:off x="566640" y="1185840"/>
            <a:ext cx="8010720" cy="448632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8786"/>
          <p:cNvSpPr/>
          <p:nvPr/>
        </p:nvSpPr>
        <p:spPr>
          <a:xfrm>
            <a:off x="7859880" y="1682640"/>
            <a:ext cx="371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7761" descr=""/>
          <p:cNvPicPr/>
          <p:nvPr/>
        </p:nvPicPr>
        <p:blipFill>
          <a:blip r:embed="rId1"/>
          <a:stretch/>
        </p:blipFill>
        <p:spPr>
          <a:xfrm>
            <a:off x="549360" y="695160"/>
            <a:ext cx="8010360" cy="605808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7762"/>
          <p:cNvSpPr/>
          <p:nvPr/>
        </p:nvSpPr>
        <p:spPr>
          <a:xfrm>
            <a:off x="3116160" y="473076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17763"/>
          <p:cNvSpPr/>
          <p:nvPr/>
        </p:nvSpPr>
        <p:spPr>
          <a:xfrm>
            <a:off x="6300720" y="527220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17764"/>
          <p:cNvSpPr/>
          <p:nvPr/>
        </p:nvSpPr>
        <p:spPr>
          <a:xfrm>
            <a:off x="3851280" y="6308640"/>
            <a:ext cx="37152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1:08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